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B7C-DEF9-40FE-92B0-16C23701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D75-AC56-40A3-87A6-5CF2ABE7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A28-68E7-4FF4-81E8-AE75532E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049-196D-4B58-B283-32423FF9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290A-9991-4182-BDD9-F3324C62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B1F1-7E49-4C88-B651-F13DEB12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D1F5-3494-4497-8C33-EB6AA644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54EE-DFE5-4BC7-BDF0-F31015E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7DA-96F1-4758-8162-E5A4A56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E72-3F75-4F70-AD4D-AE307F9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F106-54A2-4FD5-ABE8-A4B5228A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3C3-2F24-49EF-A5A5-E653F72E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FAF0-6CB0-4E48-8A4F-BB9A98F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B2F-753F-4548-9880-4E1FE7D0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6688-A1E8-423C-8C56-3D70C75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7D30-425B-4EC4-8C3F-A0522DF8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7AFA-C8BF-423B-A920-D2AFAE42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E4F-DF58-4D5F-8F83-1C0A61E3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6F7-8ADC-4E7C-A61A-D756C255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4B2-7ED2-498D-9FF1-47CB26D7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40C-436C-4CBA-961D-0068B92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45F-325D-4A75-B8A4-6D4A530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2EF-9C33-4307-93A5-8D51629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7FD-DAC2-4687-9C16-EDC6155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2617-E198-4CF3-9113-D593408235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0334-3F11-4ACA-8937-393BF7A07C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, O Lord”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13, Lesson 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And 3 Joh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06-1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17F5-67EA-4B4C-8D6F-6344A296BD5D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reetings To Gaiu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lder to the beloved Gaius whom I love in tru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ray that you will prosper and be in good health even as your soul pros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no greater joy than to hear that my children walk in truth as I hear that you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encourage your hospitality toward the brethren and for strang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E58-076F-4486-9B4C-805B212E6691}" type="slidenum">
              <a:t>10</a:t>
            </a:fld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reetings To Gaiu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have borne witness of your love before the chu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do well to help provide for their journey because they went forth for the sake of Jesus’ n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hould welcome such fellow workers for the tru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5CD-D972-4C5D-BDA9-C320196D0B90}" type="slidenum">
              <a:t>11</a:t>
            </a:fld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iotrephes And Demetrius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otreph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s to have the preemin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es not receive 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ates against us with malicious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himself won’t receive the breth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forbids those who wish to receive the breth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n putting them out of the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I come, I will call to mind his deeds which he do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13D-A94D-4437-81A9-F37C4A18DDAE}" type="slidenum">
              <a:t>12</a:t>
            </a:fld>
          </a:p>
        </p:txBody>
      </p:sp>
    </p:spTree>
  </p:cSld>
  <p:transition>
    <p:blinds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iotrephes And Demetrius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loved, do not imitate what is evil, but what is g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metriu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 good testimony from 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 good testimony from the truth itsel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lso bear witness of his good testi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ope to see you shortly, our friends greet you, greet the friends by n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015-6D0B-4A6D-A1AC-11FEFA5360B7}" type="slidenum">
              <a:t>13</a:t>
            </a:fld>
          </a:p>
        </p:txBody>
      </p:sp>
    </p:spTree>
  </p:cSld>
  <p:transition>
    <p:blinds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Second Joh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tter is addressed to the “elect lady and her childre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have been a particular church because of the plural wording John uses such as “ye”, “yourselves”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hing is certain about the writing of 2 John, but probably written from Ephes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 resided in Ephesus in the later years of his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7B2-AC02-4421-BF6A-48BCB683FAAC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Second Joh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the “elect lady” is a particular congregation, then two congregations are mentioned since v-13 mentions an “elect sister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“children” would be the individual members of the two congreg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7B2-0488-47EA-9B1E-39D45ED09FB8}" type="slidenum">
              <a:t>3</a:t>
            </a:fld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alk In The Lord’s commandments 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lder to the lady and her children whom I love as do those who have known the truth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ce, mercy and peace be with you from God the Father and the 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rejoice that some of your children walk in tru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ead with you to obey that commandment we had from the beginning that we love each o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905-2FFE-42CC-A637-36A9A0C3F9FC}" type="slidenum">
              <a:t>4</a:t>
            </a:fld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alk In The Lord’s commandment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love, that we walk according to His command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have heard this from the beginning, and you should walk in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ue love is to walk in God’s command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09B-01DA-4ABF-9900-BACC6E03560D}" type="slidenum">
              <a:t>5</a:t>
            </a:fld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eware of Deceiver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deceivers do not confess Christ as coming in the fle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ch a one is a deceiver and an antichr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to yourselves and do not lose what you have worked for, but that you may receive a full rew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ever does not abide in the doctrine of Christ does not have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BE2-AB22-4216-BC8E-283F5A693787}" type="slidenum">
              <a:t>6</a:t>
            </a:fld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eware of Deceiver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ho abides in the doctrine of Christ has both Father and 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receive into your house nor greet anyone who comes to you and does not bring this doctr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greet (wish him well) such a one is to share in his evil d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6B2-083B-43AB-A574-E6A887318CB4}" type="slidenum">
              <a:t>7</a:t>
            </a:fld>
          </a:p>
        </p:txBody>
      </p:sp>
    </p:spTree>
  </p:cSld>
  <p:transition>
    <p:blinds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ohn’s Farewell Greeting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: “I hope to come to you and speak face to face that our joy may be full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etings are sent to you from the children of your elect s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748-263F-4559-8F91-A048B58C2343}" type="slidenum">
              <a:t>8</a:t>
            </a:fld>
          </a:p>
        </p:txBody>
      </p:sp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mmary Of Third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ten to an individual named Gai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tter commends Gaius and scathingly condemns Diotrep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think 2 John was written to the church and 3 John was written to Gaius, a member of that church, the same church where Diotrephes played a dominant r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metrius, who is recommended to Gaius,  may have delivered this letter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F26-BA36-49B2-B66C-2566DDD62F85}" type="slidenum">
              <a:t>9</a:t>
            </a:fld>
          </a:p>
        </p:txBody>
      </p:sp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5:13:13Z</dcterms:created>
  <dc:creator>billy lauderdale</dc:creator>
  <dc:description/>
  <dc:language>en-US</dc:language>
  <cp:lastModifiedBy>billy lauderdale</cp:lastModifiedBy>
  <dcterms:modified xsi:type="dcterms:W3CDTF">2007-06-12T05:01:16Z</dcterms:modified>
  <cp:revision>23</cp:revision>
  <dc:subject/>
  <dc:title>“How Long, O Lord”?</dc:title>
</cp:coreProperties>
</file>